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81EFE1A-A865-467B-9BB4-02D3AEC5E3E0}"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97CD924-798E-4356-A8EF-51690D9F99CB}"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241DD2E-F85D-4F23-BE7B-3FE094968396}"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B4B88F7-E249-4CB6-AD84-C9FF93B6B5C1}"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0700E8A-57ED-4C9F-8A9A-535B36467735}"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326E650-7CDB-4B73-BEB3-64C743DA1FB3}"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DF1AB122-EDCE-44A9-BCBB-DFA7BC093C1A}"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8F9199-D6E1-483B-BBDD-121DB00B52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5F6863-CF46-4BA7-8658-48D8AAE28E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21DCC5-CFCF-4042-BB22-7F6119BA6B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FAC38E-2A2B-41B9-BBD1-906DA95ABB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7E7237-90C7-4075-A3A2-45527EBBC9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952231-2ECF-4892-A5C0-EF4BD1B2BC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5F1446-F31B-4BFB-93DA-7CCDC150B1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02271A-06C5-47BF-B516-DF70753ABC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BD37A7-B02B-4E48-96E0-3C46D00CC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E35628-A2FB-4341-A653-DE2EF4E70A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1C4FCE-B035-4046-967B-C8231BF157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CD1DB9-5582-48DD-8176-6457CA9CD6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9BEB5B-CA6E-4C91-A75E-DD369B93C3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CEDFB5-3A27-4A7A-921A-41147E96A2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8B4BFB-8A6B-46B5-ABFE-0ADD38034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892BB2-2B88-4A89-B3EB-F24674F726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535949-9BD2-4BE8-ABD9-D226540438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6BDC32-8B88-4DE2-B266-6B2C616DC8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F5BFC2-E6B9-4E30-A113-F654757DB4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04D8FC-CC05-4B5B-82A5-E30680D57C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92271A-959C-4B5A-80C3-7A508890FF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50E4D5-5BBF-47F7-A627-B4005173AE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B442D8-A9E9-46AF-A265-32066D329A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CF242C-666E-4585-ABB3-AFF8AF5A5F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372F-0585-452E-A223-4BDBF30B9994}"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F214C-3743-4465-93FB-806AB64B39D4}"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F70F226F-46D3-4C22-BA9E-320E7FB50272}" type="datetime3">
              <a:rPr b="0" lang="en-US" sz="2000" spc="-1" strike="noStrike">
                <a:solidFill>
                  <a:srgbClr val="ffffcc"/>
                </a:solidFill>
                <a:latin typeface="Tahoma"/>
              </a:rPr>
              <a:t>July 31,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